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09E4-2F5B-4040-BD54-8ECBC5BA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9584-AE0D-423C-A365-6BC7B5FE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BFBA-C6CF-4C66-97B8-59D25DB0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013-BB9C-4D8B-9978-BF552778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A0C6-0EBF-476A-A2A6-29735CE3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E961-71C1-4FB9-9A44-4A2FA550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14E-9318-4661-929A-A97EA376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FF63-78B9-450E-9E34-08051264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CA83-8F86-44E7-9EF3-FFA59A29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5219-9D45-41A6-9F48-8517F73C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408E-C6E1-4D02-BEB2-4886323D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88E8-18F4-4D37-8BA6-CD111C57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0283-9E0E-4AE2-865C-B96599429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mous People Fri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. Mundorf’s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gust 22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Famous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61960" y="2286000"/>
            <a:ext cx="4190760" cy="2286000"/>
          </a:xfrm>
          <a:prstGeom prst="rect">
            <a:avLst/>
          </a:prstGeom>
          <a:solidFill>
            <a:srgbClr val="ccecff">
              <a:alpha val="5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rge Washing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unt Rushmo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Image:Mount Rushmore National Memorial.jpg"/>
          <p:cNvPicPr/>
          <p:nvPr/>
        </p:nvPicPr>
        <p:blipFill>
          <a:blip r:embed="rId2"/>
          <a:stretch/>
        </p:blipFill>
        <p:spPr>
          <a:xfrm>
            <a:off x="1219320" y="990720"/>
            <a:ext cx="6781680" cy="5086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1066680" y="617220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ount Rushmore National Memori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near Keystone, South Dako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braham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ncol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75160" y="272520"/>
            <a:ext cx="53402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irthday: February 12, 180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ed: April 15, 186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sident number: 16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ge at Inauguration: 5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rved: 1861-1865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umber of terms :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use of Representatives (Illinois - 1847-1849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te Legislatur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Illinois 1834-1842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stmaster of New Salem Illinoi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aboutabrahamlincoln.com/Abraham_Lincoln_photo_portrait.jpg"/>
          <p:cNvPicPr/>
          <p:nvPr/>
        </p:nvPicPr>
        <p:blipFill>
          <a:blip r:embed="rId1"/>
          <a:stretch/>
        </p:blipFill>
        <p:spPr>
          <a:xfrm>
            <a:off x="152280" y="1447920"/>
            <a:ext cx="325296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www.visitingdc.com/images/lincoln-memorial-address.jpg"/>
          <p:cNvPicPr/>
          <p:nvPr/>
        </p:nvPicPr>
        <p:blipFill>
          <a:blip r:embed="rId2"/>
          <a:stretch/>
        </p:blipFill>
        <p:spPr>
          <a:xfrm>
            <a:off x="42840" y="1676520"/>
            <a:ext cx="4183200" cy="3433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www.greatestchallenge.org/images/Lincoln_Memorial.jpg"/>
          <p:cNvPicPr/>
          <p:nvPr/>
        </p:nvPicPr>
        <p:blipFill>
          <a:blip r:embed="rId3"/>
          <a:stretch/>
        </p:blipFill>
        <p:spPr>
          <a:xfrm>
            <a:off x="4403880" y="304920"/>
            <a:ext cx="4254480" cy="38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www.anders.com/pictures/public/04-views/54%20-%20Capital%20Building%20-%20Washington%20Monument%20-%20Lincoln%20Memorial%20-%20Washington%20DC_sm.jpg"/>
          <p:cNvPicPr/>
          <p:nvPr/>
        </p:nvPicPr>
        <p:blipFill>
          <a:blip r:embed="rId4"/>
          <a:stretch/>
        </p:blipFill>
        <p:spPr>
          <a:xfrm>
            <a:off x="4419720" y="4237200"/>
            <a:ext cx="41418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odor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ooseve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rthday: October 27, 185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ed: January 6, 1919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ident number: 26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 at Inauguration: 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ed: 1901-1909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f terms: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stant Secretary of the Na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or of 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www.roac.nl/roac/_pictures/general/Theodore%20Roosevelt.JPG"/>
          <p:cNvPicPr/>
          <p:nvPr/>
        </p:nvPicPr>
        <p:blipFill>
          <a:blip r:embed="rId1"/>
          <a:stretch/>
        </p:blipFill>
        <p:spPr>
          <a:xfrm>
            <a:off x="152280" y="1523880"/>
            <a:ext cx="32324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Theodore Roosevelt"/>
          <p:cNvPicPr/>
          <p:nvPr/>
        </p:nvPicPr>
        <p:blipFill>
          <a:blip r:embed="rId2"/>
          <a:stretch/>
        </p:blipFill>
        <p:spPr>
          <a:xfrm>
            <a:off x="533520" y="533520"/>
            <a:ext cx="3450960" cy="5395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theodoreroosevelt.org/graph%20harv%20col/HC2x4.jpg"/>
          <p:cNvPicPr/>
          <p:nvPr/>
        </p:nvPicPr>
        <p:blipFill>
          <a:blip r:embed="rId3"/>
          <a:stretch/>
        </p:blipFill>
        <p:spPr>
          <a:xfrm>
            <a:off x="4572000" y="762120"/>
            <a:ext cx="419112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236196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George Washington a famous pers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le 4"/>
          <p:cNvSpPr/>
          <p:nvPr/>
        </p:nvSpPr>
        <p:spPr>
          <a:xfrm>
            <a:off x="5335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4"/>
          <p:cNvSpPr/>
          <p:nvPr/>
        </p:nvSpPr>
        <p:spPr>
          <a:xfrm>
            <a:off x="228600" y="4038480"/>
            <a:ext cx="87631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Thomas Jefferson a famous pers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8:30:37Z</dcterms:created>
  <dc:creator>CCPS</dc:creator>
  <dc:description/>
  <dc:language>en-US</dc:language>
  <cp:lastModifiedBy>CCPS</cp:lastModifiedBy>
  <dcterms:modified xsi:type="dcterms:W3CDTF">2008-08-22T19:07:54Z</dcterms:modified>
  <cp:revision>13</cp:revision>
  <dc:subject/>
  <dc:title>Famous People Friday</dc:title>
</cp:coreProperties>
</file>